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D9152-A520-4644-8440-4BC789063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55D1-819F-49B4-88D0-06682BEE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12871-2C82-4E31-BCA3-2A7F1A9E49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45B67-CA34-46B6-A4E2-567F41CA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315E8-9E83-4D10-88B1-17B3743E98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0938B-7021-4FF3-9D7F-414D2509BF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F98AA-FC9E-4715-902E-A7497C49E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B9CD6-067B-40A3-94ED-4E14F2C7F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4B23BF-0CC3-4624-8591-E2B5AB55A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89CD3-2586-4984-8691-7678E7D9A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7BCC70-C873-483F-938F-3A208F816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180F5-9C49-442F-8E51-BE1C446D1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4AEB3-34CC-4188-AC23-0863E873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8747BE-B55C-40CA-AC39-601490BB9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3E8DD2-1362-4704-989D-4D3F1A53C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B0853-D320-4648-A57B-F11BEB86E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BFDE0-8649-457B-AA3C-5D89C7149A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29FC-C4BE-418E-824D-1B0E7B1FC2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1659C-7CB4-4B66-BB01-B0EF4748E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56157-F392-483F-B903-2D92E917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935DB-1EB8-49D5-B757-D26908E45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BEAB-62C5-47B8-866F-F3B8A725A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A5FB-6B19-4666-B844-A7CCDF72D6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1F7F5-BC03-4E07-81DA-6E690C3A0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908E3-5AE7-4205-BADC-D436DDF547A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005CE-5352-4230-9333-148324023B7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Link Control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Enhanc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can acknowledge frames without permitting further transmission (Receive Not Ready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send a normal acknowledge to resu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duplex, use piggyb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data to send, use acknowledgement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data but no acknowledgement to send, send last acknowledgement number again, or have ACK valid flag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bits added by transmitter for error detection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ue of parity bit is such that character has even (even parity) or odd (odd parity) number of 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en number of bit errors goes un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yclic Redundancy Chec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a block of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transmitter generate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k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bits which is exactly divisible by som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divides frame by tha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remainder, assume no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ath, see Stallings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ction and correction of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mag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omatic repeat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tive acknowled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ransmission after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gative acknowledgement and re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utomatic Repeat Request (ARQ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 back 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ve reject (selective retransmissio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singl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for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received frame damaged, discard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has timeo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within timeou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damaged,transmitter will not recognize 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 gets two copies of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ACK0 and ACK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8725"/>
          <a:stretch/>
        </p:blipFill>
        <p:spPr>
          <a:xfrm>
            <a:off x="5208480" y="0"/>
            <a:ext cx="34783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-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slid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error, ACK as usual with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o control number of outstanding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error, reply with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that frame and all future frames until error frame received cor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tter must go back and retransmit that frame and all subsequent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error i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ets rejection-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all subsequ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suring the sending entity does not overwhelm the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ing buffer over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to emit all bits into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for a bit to travers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sends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out of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send rejec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goes back to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Lost Fram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 lost and no additional frame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nothing and returns neither acknowledgement nor rej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imes out and sends acknowledgement frame with P bit set to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interprets this as command which it acknowledges with the number of the next frame it expects (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then retransmi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gets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and send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which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s are cumulative, so next acknowledgement (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+n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may arrive before transmitter times out on frame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ransmitter times out, it sends acknowledgement with P bit set as bef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can be repeated a number of times before a reset procedure is initi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Damaged Rej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lost frame (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o Back N -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50003" b="9551"/>
          <a:stretch/>
        </p:blipFill>
        <p:spPr>
          <a:xfrm>
            <a:off x="5665680" y="0"/>
            <a:ext cx="2944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called selective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rejected frames are re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sequent frames are accepted by the receiver and buff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izes 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maintain large enough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complex login in 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lective Reject -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50003" t="0" r="0" b="9551"/>
          <a:stretch/>
        </p:blipFill>
        <p:spPr>
          <a:xfrm>
            <a:off x="5667480" y="0"/>
            <a:ext cx="2943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igh Level Data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O 33009, ISO 433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Station Typ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s operation of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are called comm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intains separate logical link to each second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ary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control of primary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issued calle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bined s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ssue commands and respon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Link Configu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rimary and one or more secondary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lan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combined 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full duplex and half duple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el of Frame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rcRect l="0" t="0" r="0" b="14338"/>
          <a:stretch/>
        </p:blipFill>
        <p:spPr>
          <a:xfrm>
            <a:off x="2066760" y="1847880"/>
            <a:ext cx="5010480" cy="455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rmal Response Mode (N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nitiates transfer to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only transmit data in response to command fro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multi-drop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computer as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s as second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Balanced Mode (AB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station may initiate transmission without receiving per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wid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olling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Transfer Mode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Response Mode (AR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balanced config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ary may initiate transmission without permission form prima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responsible for 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rely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transmissions in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frame format for all data and control ex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84435"/>
          <a:stretch/>
        </p:blipFill>
        <p:spPr>
          <a:xfrm>
            <a:off x="457200" y="2971800"/>
            <a:ext cx="8153280" cy="160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ag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mit frame at both e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lose one frame and open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unts for flag sequence to synchron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t stuffing used to avoid confusion with data containing 01111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 inserted after every sequence of five 1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receiver detects five 1s it checks next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0, it is dele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1 and seventh bit is 0, accept as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sixth and seventh bits 1, sender is indicating abo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174840" y="0"/>
            <a:ext cx="596916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t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401328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ample with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sible err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6840" y="1371240"/>
            <a:ext cx="81788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es secondary station that sent or will receiv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extended to multiples of 7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SB of each octet indicates that it is the last octet (1) or not (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nes (11111111) is broad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rcRect l="4628" t="23602" r="5557" b="64662"/>
          <a:stretch/>
        </p:blipFill>
        <p:spPr>
          <a:xfrm>
            <a:off x="380880" y="5224320"/>
            <a:ext cx="8534520" cy="140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for different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formation - data to be transmitted to user (next layer u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ow and error control piggybacked on information fram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ervisory - ARQ when piggyback not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numbered - supplementary link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one or two bits of control filed identify fr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bits explained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rol Field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39671" r="0" b="7533"/>
          <a:stretch/>
        </p:blipFill>
        <p:spPr>
          <a:xfrm>
            <a:off x="457200" y="137952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transmits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receives frame and replies with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waits for ACK before sending next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can stop flow by not send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s well for a few large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oll/Final B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depends on contex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to solicit (poll) response from p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ponse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indicates response to soliciting comm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formation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information and some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contain integral number of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Check Sequence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al 32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L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change of information, supervisory and unnumbered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pha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onnec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rcRect l="0" t="0" r="0" b="53368"/>
          <a:stretch/>
        </p:blipFill>
        <p:spPr>
          <a:xfrm>
            <a:off x="457200" y="1382760"/>
            <a:ext cx="8001000" cy="495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 of Oper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47755" r="17774" b="6244"/>
          <a:stretch/>
        </p:blipFill>
        <p:spPr>
          <a:xfrm>
            <a:off x="457200" y="1363680"/>
            <a:ext cx="6781680" cy="503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APB,LAP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X.25 (ITU-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 - 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int to point link between system and packet switching network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cedure, D-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DN (ITU-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ways 7-bit sequence numbers (no 3-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address field contains two sub-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e for device and one for user (next layer up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LLC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Link Control (LL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frame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ntrol split between medium access layer (MAC) and LLC (on top of MA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primary and secondary - all stations are pe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addresse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er and recei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t MAC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2 bit CRC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stination and source access points (DSAP, SSA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over high speed packet 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in place of X.2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Link Access Procedure for Frame-Mode Bearer Services (LAP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protoco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- similar to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e - subset of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(Frame Relay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7-bit sequence nu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6 bit CR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3 or 4 octet address fiel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ink connection identifier (DLC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logical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n frame relay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block of data may be split into small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mited buffer siz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detected sooner (when whole frame receiv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error, retransmission of smaller frames i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vents one station occupying medium for long perio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 becomes inadequ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ther DLC Protocols (ATM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lined capability across high spe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HDLC b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format called “cell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53 octet (424 b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ails l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HDLC, frame relay, Ethernet and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op and Wait Link Util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-84" r="0" b="-84"/>
          <a:stretch/>
        </p:blipFill>
        <p:spPr>
          <a:xfrm>
            <a:off x="1114560" y="1676520"/>
            <a:ext cx="691488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s 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multiple frames to be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has buffer W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can send up to W frames without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is numbe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number of next frame expec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 bounded by size of field (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s are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iding Window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rcRect l="0" t="0" r="0" b="6023"/>
          <a:stretch/>
        </p:blipFill>
        <p:spPr>
          <a:xfrm>
            <a:off x="1066680" y="1714680"/>
            <a:ext cx="6782040" cy="50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Sliding Window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9007"/>
          <a:stretch/>
        </p:blipFill>
        <p:spPr>
          <a:xfrm>
            <a:off x="1143000" y="1704960"/>
            <a:ext cx="7086600" cy="5114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07:38:10Z</dcterms:created>
  <dc:creator>Adrian &amp; Wendy</dc:creator>
  <dc:description/>
  <dc:language>en-US</dc:language>
  <cp:lastModifiedBy>Adrian J Pullin</cp:lastModifiedBy>
  <dcterms:modified xsi:type="dcterms:W3CDTF">1999-10-13T14:41:24Z</dcterms:modified>
  <cp:revision>31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